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0EEB4-8706-498F-87B4-14BE39D6AD5E}"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AE89F-7268-42E8-875A-A01EB1DB0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003A5-6927-4524-A5FE-A2E010AD7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85680" y="741240"/>
            <a:ext cx="4886640" cy="3665520"/>
          </a:xfrm>
          <a:prstGeom prst="rect">
            <a:avLst/>
          </a:prstGeom>
          <a:ln w="0">
            <a:noFill/>
          </a:ln>
        </p:spPr>
      </p:sp>
      <p:sp>
        <p:nvSpPr>
          <p:cNvPr id="1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5D8E6-CC4A-4E0D-932F-54895F121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85680" y="741240"/>
            <a:ext cx="4886640" cy="3665520"/>
          </a:xfrm>
          <a:prstGeom prst="rect">
            <a:avLst/>
          </a:prstGeom>
          <a:ln w="0">
            <a:noFill/>
          </a:ln>
        </p:spPr>
      </p:sp>
      <p:sp>
        <p:nvSpPr>
          <p:cNvPr id="1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FA2C5-16F7-414E-BE91-EB06E6377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985680" y="741240"/>
            <a:ext cx="4886640" cy="3665520"/>
          </a:xfrm>
          <a:prstGeom prst="rect">
            <a:avLst/>
          </a:prstGeom>
          <a:ln w="0">
            <a:noFill/>
          </a:ln>
        </p:spPr>
      </p:sp>
      <p:sp>
        <p:nvSpPr>
          <p:cNvPr id="10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B221C-3D49-4B3C-BF94-026E7C3E6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09DF3-C4F9-4C8F-A78B-158974592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85680" y="741240"/>
            <a:ext cx="4886640" cy="3665520"/>
          </a:xfrm>
          <a:prstGeom prst="rect">
            <a:avLst/>
          </a:prstGeom>
          <a:ln w="0">
            <a:noFill/>
          </a:ln>
        </p:spPr>
      </p:sp>
      <p:sp>
        <p:nvSpPr>
          <p:cNvPr id="1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BB650-4E11-43E8-9690-6408E1194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985680" y="741240"/>
            <a:ext cx="4886640" cy="3665520"/>
          </a:xfrm>
          <a:prstGeom prst="rect">
            <a:avLst/>
          </a:prstGeom>
          <a:ln w="0">
            <a:noFill/>
          </a:ln>
        </p:spPr>
      </p:sp>
      <p:sp>
        <p:nvSpPr>
          <p:cNvPr id="1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D31A5-2546-4C53-9948-1E24A0EA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985680" y="741240"/>
            <a:ext cx="4886640" cy="3665520"/>
          </a:xfrm>
          <a:prstGeom prst="rect">
            <a:avLst/>
          </a:prstGeom>
          <a:ln w="0">
            <a:noFill/>
          </a:ln>
        </p:spPr>
      </p:sp>
      <p:sp>
        <p:nvSpPr>
          <p:cNvPr id="1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3A2D5-BFAC-4CFE-B8B9-FD44B8479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985680" y="741240"/>
            <a:ext cx="4886640" cy="3665520"/>
          </a:xfrm>
          <a:prstGeom prst="rect">
            <a:avLst/>
          </a:prstGeom>
          <a:ln w="0">
            <a:noFill/>
          </a:ln>
        </p:spPr>
      </p:sp>
      <p:sp>
        <p:nvSpPr>
          <p:cNvPr id="1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EA1C4-0117-44D6-9038-BEC104773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985680" y="741240"/>
            <a:ext cx="4886640" cy="3665520"/>
          </a:xfrm>
          <a:prstGeom prst="rect">
            <a:avLst/>
          </a:prstGeom>
          <a:ln w="0">
            <a:noFill/>
          </a:ln>
        </p:spPr>
      </p:sp>
      <p:sp>
        <p:nvSpPr>
          <p:cNvPr id="1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9F024-01E9-4BA1-92F2-508796624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1483D-27D9-422E-83C7-10FBA34B9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985680" y="741240"/>
            <a:ext cx="4886640" cy="3665520"/>
          </a:xfrm>
          <a:prstGeom prst="rect">
            <a:avLst/>
          </a:prstGeom>
          <a:ln w="0">
            <a:noFill/>
          </a:ln>
        </p:spPr>
      </p:sp>
      <p:sp>
        <p:nvSpPr>
          <p:cNvPr id="1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5A3D2-8549-4D2A-A877-3FAD85094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985680" y="741240"/>
            <a:ext cx="4886640" cy="3665520"/>
          </a:xfrm>
          <a:prstGeom prst="rect">
            <a:avLst/>
          </a:prstGeom>
          <a:ln w="0">
            <a:noFill/>
          </a:ln>
        </p:spPr>
      </p:sp>
      <p:sp>
        <p:nvSpPr>
          <p:cNvPr id="1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67B6A-BE72-403F-9317-923DC1E74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85680" y="741240"/>
            <a:ext cx="4886640" cy="3665520"/>
          </a:xfrm>
          <a:prstGeom prst="rect">
            <a:avLst/>
          </a:prstGeom>
          <a:ln w="0">
            <a:noFill/>
          </a:ln>
        </p:spPr>
      </p:sp>
      <p:sp>
        <p:nvSpPr>
          <p:cNvPr id="10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8C270-B602-4669-8898-B10C3CB1C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985680" y="741240"/>
            <a:ext cx="4886640" cy="3665520"/>
          </a:xfrm>
          <a:prstGeom prst="rect">
            <a:avLst/>
          </a:prstGeom>
          <a:ln w="0">
            <a:noFill/>
          </a:ln>
        </p:spPr>
      </p:sp>
      <p:sp>
        <p:nvSpPr>
          <p:cNvPr id="1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8703E-D1E1-4BCF-9457-F180FF7AD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985680" y="741240"/>
            <a:ext cx="4886640" cy="3665520"/>
          </a:xfrm>
          <a:prstGeom prst="rect">
            <a:avLst/>
          </a:prstGeom>
          <a:ln w="0">
            <a:noFill/>
          </a:ln>
        </p:spPr>
      </p:sp>
      <p:sp>
        <p:nvSpPr>
          <p:cNvPr id="1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7EC90-EF04-4AE5-A143-D9868E4A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985680" y="741240"/>
            <a:ext cx="4886640" cy="3665520"/>
          </a:xfrm>
          <a:prstGeom prst="rect">
            <a:avLst/>
          </a:prstGeom>
          <a:ln w="0">
            <a:noFill/>
          </a:ln>
        </p:spPr>
      </p:sp>
      <p:sp>
        <p:nvSpPr>
          <p:cNvPr id="1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DA762-AB9F-4427-A219-7B381CB0F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985680" y="741240"/>
            <a:ext cx="4886640" cy="3665520"/>
          </a:xfrm>
          <a:prstGeom prst="rect">
            <a:avLst/>
          </a:prstGeom>
          <a:ln w="0">
            <a:noFill/>
          </a:ln>
        </p:spPr>
      </p:sp>
      <p:sp>
        <p:nvSpPr>
          <p:cNvPr id="10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A90FE-BE28-4355-A21E-ED6F75561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985680" y="741240"/>
            <a:ext cx="4886640" cy="3665520"/>
          </a:xfrm>
          <a:prstGeom prst="rect">
            <a:avLst/>
          </a:prstGeom>
          <a:ln w="0">
            <a:noFill/>
          </a:ln>
        </p:spPr>
      </p:sp>
      <p:sp>
        <p:nvSpPr>
          <p:cNvPr id="1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BF9A1-74BD-4191-906C-95994F747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985680" y="741240"/>
            <a:ext cx="4886640" cy="3665520"/>
          </a:xfrm>
          <a:prstGeom prst="rect">
            <a:avLst/>
          </a:prstGeom>
          <a:ln w="0">
            <a:noFill/>
          </a:ln>
        </p:spPr>
      </p:sp>
      <p:sp>
        <p:nvSpPr>
          <p:cNvPr id="1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88F40-D5DA-46D6-85E4-2E1DB0FD6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985680" y="741240"/>
            <a:ext cx="4886640" cy="3665520"/>
          </a:xfrm>
          <a:prstGeom prst="rect">
            <a:avLst/>
          </a:prstGeom>
          <a:ln w="0">
            <a:noFill/>
          </a:ln>
        </p:spPr>
      </p:sp>
      <p:sp>
        <p:nvSpPr>
          <p:cNvPr id="1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47629-00AD-4475-A29C-9A2A9384B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85680" y="741240"/>
            <a:ext cx="4886640" cy="3665520"/>
          </a:xfrm>
          <a:prstGeom prst="rect">
            <a:avLst/>
          </a:prstGeom>
          <a:ln w="0">
            <a:noFill/>
          </a:ln>
        </p:spPr>
      </p:sp>
      <p:sp>
        <p:nvSpPr>
          <p:cNvPr id="1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E8AE5-9960-417D-A4A6-E4BFD4FB8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985680" y="741240"/>
            <a:ext cx="4886640" cy="3665520"/>
          </a:xfrm>
          <a:prstGeom prst="rect">
            <a:avLst/>
          </a:prstGeom>
          <a:ln w="0">
            <a:noFill/>
          </a:ln>
        </p:spPr>
      </p:sp>
      <p:sp>
        <p:nvSpPr>
          <p:cNvPr id="10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5CFC2-80F8-471C-A4D1-940799621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985680" y="741240"/>
            <a:ext cx="4886640" cy="3665520"/>
          </a:xfrm>
          <a:prstGeom prst="rect">
            <a:avLst/>
          </a:prstGeom>
          <a:ln w="0">
            <a:noFill/>
          </a:ln>
        </p:spPr>
      </p:sp>
      <p:sp>
        <p:nvSpPr>
          <p:cNvPr id="1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A06A6-1B31-45DC-BB93-A5E0FADA4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985680" y="741240"/>
            <a:ext cx="4886640" cy="3665520"/>
          </a:xfrm>
          <a:prstGeom prst="rect">
            <a:avLst/>
          </a:prstGeom>
          <a:ln w="0">
            <a:noFill/>
          </a:ln>
        </p:spPr>
      </p:sp>
      <p:sp>
        <p:nvSpPr>
          <p:cNvPr id="1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0AA6F-D3A5-4DD7-A21A-DDEAD1558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985680" y="741240"/>
            <a:ext cx="4886640" cy="3665520"/>
          </a:xfrm>
          <a:prstGeom prst="rect">
            <a:avLst/>
          </a:prstGeom>
          <a:ln w="0">
            <a:noFill/>
          </a:ln>
        </p:spPr>
      </p:sp>
      <p:sp>
        <p:nvSpPr>
          <p:cNvPr id="1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03117-EF93-4F45-9F9D-2D0F02A0D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985680" y="741240"/>
            <a:ext cx="4886640" cy="3665520"/>
          </a:xfrm>
          <a:prstGeom prst="rect">
            <a:avLst/>
          </a:prstGeom>
          <a:ln w="0">
            <a:noFill/>
          </a:ln>
        </p:spPr>
      </p:sp>
      <p:sp>
        <p:nvSpPr>
          <p:cNvPr id="10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9919D-C52E-4321-899C-0A6D473F3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985680" y="741240"/>
            <a:ext cx="4886640" cy="3665520"/>
          </a:xfrm>
          <a:prstGeom prst="rect">
            <a:avLst/>
          </a:prstGeom>
          <a:ln w="0">
            <a:noFill/>
          </a:ln>
        </p:spPr>
      </p:sp>
      <p:sp>
        <p:nvSpPr>
          <p:cNvPr id="1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97D74-6882-4293-9738-B3571552F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985680" y="741240"/>
            <a:ext cx="4886640" cy="3665520"/>
          </a:xfrm>
          <a:prstGeom prst="rect">
            <a:avLst/>
          </a:prstGeom>
          <a:ln w="0">
            <a:noFill/>
          </a:ln>
        </p:spPr>
      </p:sp>
      <p:sp>
        <p:nvSpPr>
          <p:cNvPr id="1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F35B7-0069-4689-8940-3DF9BCBB4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985680" y="741240"/>
            <a:ext cx="4886640" cy="3665520"/>
          </a:xfrm>
          <a:prstGeom prst="rect">
            <a:avLst/>
          </a:prstGeom>
          <a:ln w="0">
            <a:noFill/>
          </a:ln>
        </p:spPr>
      </p:sp>
      <p:sp>
        <p:nvSpPr>
          <p:cNvPr id="1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75CE8-CF84-46BD-B9E6-9D2C12F05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985680" y="741240"/>
            <a:ext cx="4886640" cy="3665520"/>
          </a:xfrm>
          <a:prstGeom prst="rect">
            <a:avLst/>
          </a:prstGeom>
          <a:ln w="0">
            <a:noFill/>
          </a:ln>
        </p:spPr>
      </p:sp>
      <p:sp>
        <p:nvSpPr>
          <p:cNvPr id="11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27327-5DAE-4F46-A038-8B787C9E3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F009E-3CEA-4128-8980-40226A8C5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985680" y="741240"/>
            <a:ext cx="4886640" cy="3665520"/>
          </a:xfrm>
          <a:prstGeom prst="rect">
            <a:avLst/>
          </a:prstGeom>
          <a:ln w="0">
            <a:noFill/>
          </a:ln>
        </p:spPr>
      </p:sp>
      <p:sp>
        <p:nvSpPr>
          <p:cNvPr id="1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64E50-AC3B-4230-BF6A-5AF423CDB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CBC7E-F206-44A8-8C9A-45FCE17DC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8B94C-0CFC-43E3-9C7D-BC3C86776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122E2-28E9-4414-8D56-E965A7A25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A04BD-CB89-422C-A6FA-0E160001D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A1056-C80B-40BB-998A-2D28AE39D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67637-F7AB-4AC1-89A1-40EE3ECCE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DC590-9C64-46AF-8BBA-F361B9BFC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0974C-2F9B-4FCC-B233-031B1FCF8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C4404-A637-4D36-A2FF-80C07CF9E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99E27-4D9A-420C-BF64-D4A9E8C7C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985680" y="741240"/>
            <a:ext cx="4886640" cy="3665520"/>
          </a:xfrm>
          <a:prstGeom prst="rect">
            <a:avLst/>
          </a:prstGeom>
          <a:ln w="0">
            <a:noFill/>
          </a:ln>
        </p:spPr>
      </p:sp>
      <p:sp>
        <p:nvSpPr>
          <p:cNvPr id="1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41707-0E46-43AF-8B4B-EA7B0214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4E5F1-DADE-47C3-92D3-A68394501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E4FBB-E229-49FD-A260-8F87F7B4F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985680" y="741240"/>
            <a:ext cx="4886640" cy="3665520"/>
          </a:xfrm>
          <a:prstGeom prst="rect">
            <a:avLst/>
          </a:prstGeom>
          <a:ln w="0">
            <a:noFill/>
          </a:ln>
        </p:spPr>
      </p:sp>
      <p:sp>
        <p:nvSpPr>
          <p:cNvPr id="1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00A9A-3DB8-41DD-A00B-C6B037D35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985680" y="741240"/>
            <a:ext cx="4886640" cy="3665520"/>
          </a:xfrm>
          <a:prstGeom prst="rect">
            <a:avLst/>
          </a:prstGeom>
          <a:ln w="0">
            <a:noFill/>
          </a:ln>
        </p:spPr>
      </p:sp>
      <p:sp>
        <p:nvSpPr>
          <p:cNvPr id="1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79D94-834D-4C1B-BCA3-8A72B09A4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985680" y="741240"/>
            <a:ext cx="4886640" cy="3665520"/>
          </a:xfrm>
          <a:prstGeom prst="rect">
            <a:avLst/>
          </a:prstGeom>
          <a:ln w="0">
            <a:noFill/>
          </a:ln>
        </p:spPr>
      </p:sp>
      <p:sp>
        <p:nvSpPr>
          <p:cNvPr id="10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3813F-6A6D-4918-B001-285C94F4EF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EF27555-52A0-4C36-92F8-4C603E83E4B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4710905-820E-4C96-BEF2-4788B41B2F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1A1597C-8388-4449-9B7E-653CBAEB77D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E7E9105-EAB4-471C-A5C8-7B0B1C77B2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52AA0C4-9E13-4DF8-84E6-6BEF129202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CE36668-BEAD-44D4-97A7-635700BA87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F537932-6BD0-48E2-9200-927418D744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BFE6CB3-2132-4E49-A9A5-29FB4CF69B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1324C1B9-3B06-4A07-A475-17D72F45E2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3F82F02-6D90-4F5D-8C8D-071D2E2F3A1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223A8FD-D6F0-499F-BC99-3BAC1C9C0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242999B-0C2F-4B25-A586-EC41FE68C2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23AE674-9030-47F4-82AF-5EB48A6125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BE31E48-E17B-4111-AC35-ABB5F5C58E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17D709E-2B9D-49F6-91C4-61437E4537D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E8A0A77-A0C8-4C57-9EB1-3BA43F1A4D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28696758-D80B-451D-8890-B78C6AA97A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80DA863-C2D8-4E92-9F08-072CDDBA3E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6F4ABFE-AED9-4613-BF23-36229C6779A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33DC7D4-9BDE-4CBD-A6B9-8B16A69994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C77743C-D66F-4ECC-A37F-97162F62634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47830F1-0094-4F31-9610-384F68008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87C77ED-6C23-4A6B-9A68-7D5CD049FD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5E877DA-7776-4CE2-A793-51D0603E6C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62B10FD-D3CB-4380-98FE-AE8C98365EA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D716501-D3DE-4811-90BB-67CB6219C0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41DAF34-7D42-448C-ADBE-0267D800E0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1042FE8-99A8-40E2-8E85-BBF4DC2BF7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4459AA0-C065-4D1E-994D-1838FE08FC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D3511D5-1FFE-43EE-8016-8A343D6D16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F0271D1-F653-45D9-B223-3B5BA1B1F81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081F329-FE19-465B-9A62-5DB3684AE2F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C94C036-CFB1-4B00-9282-FD679ED9C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850D63-0243-49B1-9A4E-E17AA58D7EB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FE5E304-F07B-4F61-9A77-73FB3DCE07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50DD15D-457E-4C70-A262-8A76091E261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B728150-4BA7-46FD-A9F6-DF92CF74FD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E53D4A6-E164-4A05-B28F-8BBC928F4B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8D40681-C8AD-4967-AF68-36E803945A2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7871834-E278-4779-BB97-CE7D7D3D38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5C64171-A05C-49F7-86CE-46508D3F7A3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78490AB-1D8C-4E25-8584-B10CBC4443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6BE83EE-5928-4CF0-BCAC-BA00B0EF3F4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0BFF437-B9AA-4D06-B24E-D89B6D14B4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F918D97-197D-4396-8E6B-399B51CD08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F7D9CBC-1133-47AE-94F9-D45404FE99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E5FCCF0-88DB-4B5B-8A6A-2F968FE7D2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10606EA-A0EA-49D3-A541-46BF21EE21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DCA7C80-AB06-4538-AC5B-6AE988983A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A95BFF4-0008-4A22-A0CF-52AE4FCA4CB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14F8220-52F5-44A7-AA9F-35C6ED5560D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B6722D3-9E25-4BBE-9E54-102DD8929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EAFBA4A-05DE-4AD0-96E5-D812091CA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B7EA6F3-0419-4337-AF76-47F9F9621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1F6FD70-F92C-41FF-BFEF-EF9713F5B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9F39BF8-16D3-4006-B398-7A0CD7968DF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1A3E062-03B7-43F7-AF29-EFEA7B24AB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EF2A11A-0216-4649-B50B-9BDB1F780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88DBB44-C507-4C65-9D3E-0F4372681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71DD394-BC65-4AB0-A326-588A25CBA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5096A45-6188-4E23-A1C3-A3AD2C527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7E190E8-3593-4001-91F5-69AA9D54E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9F4B545-BC8C-46B7-890F-9B6F52B429F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40E4188-0D8D-400E-8108-750E2D352D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B340123-3069-4B74-AFC8-3C6824F61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3834937-30E1-437B-8F53-782802193F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5AD599E-87D9-46D8-94AB-97475237BB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8406C51-6698-4033-ACF0-8ADCCD877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38A1F6C-47CB-45D3-A74E-0B93664EFC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014B092-4F36-4EF8-BBB3-CF0AD70EA8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546DC33-8082-4C69-95F3-B3058E8593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5FE424B-0687-4664-8E33-16AA9D2D13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1FD8A96-3F70-4474-9B18-2FDC3C2176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865BCB-EF5F-427A-AB78-F99FC46391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A7840-A820-4F83-8EAC-E5BEF4885F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78164C-50B7-483D-A32F-FE5432DB4D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455E930-B406-44A8-BE90-8CB1DFF75F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0476AC-63A4-49BF-8CB9-C54A7E286A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2358EB0-892F-402A-AC75-EA2391784B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2E1D37D-FFB6-44AA-A907-0AA40A9E50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7DD463E-171E-45F2-85B4-34C2268CFF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71F5CC9-7130-43A1-A922-83143E4F65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68DB7A7-8E40-41ED-B940-89CF4D21EF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929315E-FB8B-4410-962E-D13D753232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03D02BA-A7EA-4FB2-A1AF-0828E0DF10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75F35AD-C730-42F3-9792-55827F0DB5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874544-A586-4799-B9F6-9EDE51C186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2DD3A5E-8A9D-4717-81A9-E78D7C7AA8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2549181-D44C-4AC6-8F4D-1981D5C1D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E41FE23-CD9D-4065-A3E6-FD2E63758B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C36FF85-6B54-46DE-992B-D9EF3529B47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3E2A583-D589-4714-AFFA-C5D222A157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33354B7-043B-4F13-B2F9-877A13196D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CCDE70D-E54B-48EB-98E7-18EB7BD962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2FF8343-6E07-4F1B-825A-5862D0BABE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D2D1F99-002D-4EE2-8266-1C058387E36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964FC59-1C96-4220-AD0D-662DCA031D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E019C37-FA93-4179-B863-2EAB8FBB8A0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62EDAAC-B7FB-41EA-AC8B-E84612F5FFB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1F0DC0-AB0B-4B46-A8B8-F130DFAA7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985D8F1-09E4-4DF9-B0A8-D42603FFF9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A944D3F-D963-40A9-96BE-ABD18579EA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5939DB6-B79C-442E-B0A0-8CAA1F8269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22A7B7A-FDC6-41FC-A820-6A7E4E84644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D87DB31-3EF6-4697-9806-B8FA0103E1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3C3C62F-64A7-44A8-B155-3CD340EF96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F484F9A-40D9-4923-8115-674A37D19F5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5449688-88D6-4A44-8EC5-FEF286F562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84B816A-1E28-4AE6-82BC-3A0C2E9C14F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53C6E2C-9A8D-473C-B5AF-F88B66E165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DCFA3A2-2CF1-47FB-9070-202FE5BC7E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7AFADAF-8F0F-4AC2-B06B-D566EF2554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5FB648C-271E-4F55-B916-52AB10351B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3FD8EB-3599-4917-9D28-6ED1C75B97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0B0279F-4122-4E4C-A81D-9C930DA6B48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CA1B02F-E74E-45AF-933A-569B8116B6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F631865-5BBB-4238-BA01-CF641B6A81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4390F89-7BBB-4815-A5A5-B805742A29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CE08F4E-382B-4CC1-9576-301C62E4C60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3E441DB-123E-4FEF-8753-836C8EDA8F4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DDC9A69-8B4F-4C16-84C0-B6D0320F6B3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D4029E1-561D-4E7C-8666-C38170793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5A51320-A4DD-4FB0-AF8B-2CEBB3EEBB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6042DFF-3998-47ED-A981-04D9650594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2EBDCDB-7AC4-4FBD-BDB2-6E5AF54D461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40B6EAB-8689-4B16-944A-26777541D8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6138FEF-FD61-42B6-A89A-CD21C03F9D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F92374E-C6A1-4A2B-B460-43241CFE6C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65DAE4F-C75C-4478-949B-07589C671F1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D54019A-15A3-45A1-85C1-696D1D2F3F9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B77C544-939F-4C22-8BBA-A301AB916F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CE707A3-8FE4-43CB-81DE-ED6EB6EFB5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F172E1F-354B-4E37-B4E4-F2F69160F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D1F9B46-64C8-4983-9A9D-F577105823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62B851C-C583-4B75-8672-92F1950534D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34C81E8-02E6-417C-9876-F152C7FBD7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29C8DBA-639C-4A71-BF84-A9D455FF7E1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EE88846-2864-48F5-BB69-90B938779F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EC1DA5C-AA8B-4008-A1FF-248DAF14A4E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F5C7D14-1624-46D2-8BEC-492948C90A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984F4FC-63DE-41D3-812D-6AF977AF97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C5923C1-8E63-46D7-9403-01B63497220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26648BD-03E5-444F-B6AA-1A73B580AA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4A869BA0-9168-4B7A-A863-9BF7DDC6D3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148911C-6AA4-439A-8EBB-140BA47E16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E0B86CF-C23C-4A07-B9E4-B8E23B410D8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6A4C26C-9AAD-4893-9794-05BA360B286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9F5CB52-4D07-40CD-905B-C50F8E1F3F7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300461E-F87E-46CB-B34F-65449D1EB0B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44B47B2-DFC9-44AA-8C64-A319B8FE39C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E5075DB-F5E4-4222-9219-E215172919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6632948-6F9B-47E3-898C-0A81DDA0C9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EEC39A4-14D5-45CC-9266-8BB43DEF66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FF42A98-FC59-4A84-A71C-8862010E2D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87E80CC-E780-4FF5-93E0-7AA842F62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A315A-8C3B-4E4A-AC22-BCF68FE16C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A29E2-862C-4699-9E12-7F6D924065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EAF8E-1637-472A-980C-441AEF7EA9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112E6-2C95-4A8B-9434-594AEBE8323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3C1F1-CD6F-46EC-9851-46EA8F35890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F2AEC-83A8-40C8-AAD1-99FB9AFADF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3CA32-6A4A-45BB-89FC-11AAAE0CEF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7F5F8-4B53-48AA-976F-8D177DD383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C2261-BB16-42CC-BCB3-EF689A16BF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6E6E6-AC97-44D5-9DD9-6181BB5DD5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94A95-3F27-4149-B0AC-1614C54118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B2791-6EC2-4A37-AE9B-E415FE92C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17AFD-0688-4372-B4CC-5EF97027F1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24000" y="981000"/>
            <a:ext cx="81356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268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991" name="" descr=""/>
          <p:cNvPicPr/>
          <p:nvPr/>
        </p:nvPicPr>
        <p:blipFill>
          <a:blip r:embed="rId1"/>
          <a:stretch/>
        </p:blipFill>
        <p:spPr>
          <a:xfrm>
            <a:off x="0" y="0"/>
            <a:ext cx="9144000" cy="1368360"/>
          </a:xfrm>
          <a:prstGeom prst="rect">
            <a:avLst/>
          </a:prstGeom>
          <a:ln w="0">
            <a:noFill/>
          </a:ln>
        </p:spPr>
      </p:pic>
      <p:pic>
        <p:nvPicPr>
          <p:cNvPr id="992" name="" descr=""/>
          <p:cNvPicPr/>
          <p:nvPr/>
        </p:nvPicPr>
        <p:blipFill>
          <a:blip r:embed="rId2"/>
          <a:stretch/>
        </p:blipFill>
        <p:spPr>
          <a:xfrm>
            <a:off x="1258920" y="2060640"/>
            <a:ext cx="1297080" cy="1528560"/>
          </a:xfrm>
          <a:prstGeom prst="rect">
            <a:avLst/>
          </a:prstGeom>
          <a:ln w="0">
            <a:noFill/>
          </a:ln>
        </p:spPr>
      </p:pic>
      <p:pic>
        <p:nvPicPr>
          <p:cNvPr id="993" name="" descr=""/>
          <p:cNvPicPr/>
          <p:nvPr/>
        </p:nvPicPr>
        <p:blipFill>
          <a:blip r:embed="rId3"/>
          <a:stretch/>
        </p:blipFill>
        <p:spPr>
          <a:xfrm>
            <a:off x="6948360" y="1989000"/>
            <a:ext cx="1444680" cy="1573200"/>
          </a:xfrm>
          <a:prstGeom prst="rect">
            <a:avLst/>
          </a:prstGeom>
          <a:ln w="0">
            <a:noFill/>
          </a:ln>
        </p:spPr>
      </p:pic>
      <p:sp>
        <p:nvSpPr>
          <p:cNvPr id="994"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995"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125360"/>
            <a:ext cx="8424720" cy="458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35Z</dcterms:modified>
  <cp:revision>160</cp:revision>
  <dc:subject/>
  <dc:title>Παρουσίαση του PowerPoint</dc:title>
</cp:coreProperties>
</file>